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00A-D7C0-40ED-8AE8-B913F048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94D-FDD1-40E8-B540-027D82ED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5A56-B97A-4051-B7DB-3F62138E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0A5-0A36-4CB0-BF7E-DE272937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ED0D-E939-4D3B-81D6-70A18C4A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F0EB-D36F-40BE-BD10-74DD4E9F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399A-4551-4CA2-B1C5-A22D7B98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9542-622D-465E-9918-96D4387D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CE3D-A9B8-44F6-810D-93296847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B628-4038-46BC-B6EA-6D55EA6B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1046-9340-4EB5-9DF9-BD6EBEAF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B23F-8AC8-4917-A3F9-5AD447BF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F964-C904-4448-B009-19CBDC2B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5000-C9A2-4BEE-85D8-7B36BC0E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2A5F-F379-4CE4-A079-9BC65D08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D1AC-0880-47DD-9D7B-D7AEE8AD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F447-ADFB-49A8-8E0B-1A1C3017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E03-922E-40A1-9F01-C98DE865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61E-B849-4886-9C7E-EB4BCE37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23E-8ED5-48C1-ADE6-C744FDEB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811-B50F-4298-A790-28DFCF41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893E-2276-49E4-B5E6-4C7ACB41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F89-DA83-4C2E-B7AD-1B1C9B08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AB2-B2DB-41AF-9708-181BEE7F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D853-513E-4E96-A182-C984359B2F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2474-E778-4EBD-ACFA-F23414530C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ms.hhs.gov/regulations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F PPS REFINEMENTS-   53 RUG-III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wing-Bed Ver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MS, November 21, 200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ery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,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0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715-F294-4502-BBF0-1EDB00DEC0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5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C8B-4458-44F3-8503-0A9B0792AC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: (section P1b [a, b, c]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5 days any combination of the 3 discip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50AE-5A45-4BAA-B013-890FD62F61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b,c] and P3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 minutes of therapy per week minimum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3 days any combination of the 3 discipline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or more nursing rehabilitation services received at least 15 minutes each for 6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900-6D5E-4D57-A971-00DB349CDC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e there any changes to the MDS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re have been no changes to the instructions for completing the MD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ou will continue to complete as usu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9A67-E498-42DE-9C82-AA660B56F3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D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hanges to MDS ite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tion 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projection of therapy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tin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high, medium, and low intensit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MRA requirement must be fulfilled when all therapy services are no longer provi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sident was previously assigned into a Rehabilitation Plus Extensive Services or Rehabilitation categ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skilled services continue to be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18E8-7CCB-424B-9E15-188B1F6F84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dministrative Presumption of Coverag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alifying hospital sta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et the level of care requirements of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</a:rPr>
              <a:t>4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CFR 409.3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p to and including the assessment reference date for the 5-day assess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signed to one of the RUGs as representing the required level of ca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EDEE-D973-447D-8BC0-FA16D4CA46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oups “Administrative Presumption” Appl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lies to the top 35 groups when correctly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beneficiary who classifies to any of the lower 18 RUG groups is not automatically classified as meeting the SNF level of care defini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1A3-1FFC-4D47-B9BE-97F550F5C1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op 35 RUG group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habilitation plus Extensive Services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ltra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ry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dium Rehabilitation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w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tensive Servic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ecial Care; and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nically Complex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F75-EF5A-4082-9FFA-2606FD8D86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Updat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 version of RAVEN, 5.20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gin using new software for ARDs of 11/22/05 and la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ll receive 2 RUGs categories on Final Validation Report from 11/22/05 – 1/13/06 =&gt; one will be 44-RUG category, one will be 53-RU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B8A-1544-463A-9363-85294D1CF4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RUG Refinement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tion 101 of The Medicare, Medicaid, SCHIP Balanced Budget Refinement Act of 1999 (BBRA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porary add-ons for specified RUG grou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til 10/1/00 or the implementation of case-mix refinements to the SNF P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CE6-5A93-4B41-AF8C-771ED43CDD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 from October 1 to December 31, 2005 payment based on the 44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s January 1, 2006 and on payment based on the 53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95CA-DCFD-4949-BE70-0CEFDDE2AE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maximizing classification  continu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a beneficiary classifies into more than one RUG category, the group with the highest case mix index (CMI) will be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795B-1E82-40F4-9CA4-BEE72E739D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ex Maximizing Classification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son meets criteria for assignment in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L (CMI = 46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B (CMI = 43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2 (CMI = 31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VL has highest CMI (46).  Therefore, the person will be assigned into RV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384-0A67-4289-A146-AEAC1FC950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-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mporary add-ons of 20% and 6.7%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main in effect 10/1 – 12/31/0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longer apply 1/1/0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IDS temporary add-on of 128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plies to both RUG classification syste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8B23-D72B-4980-8669-27B9A81BFF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im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HIPPS codes are for the nine new categories only, which correspond to nine new RU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changes to assessment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ims with one of the new nine RUG categories with dates of service prior to 1/1/06 will be rejec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3F51-6706-408A-AB98-1C6759CD03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3 RUG-III Case-Mix Classification System (44 RUGs plus 9 new 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ion of the M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umption” of Coverag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upd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y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24C-D064-44C0-B396-DA29506314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Rehabilitation Plus Extensive Services:  RUX, RUL, RVX, RVL, RHX, RHL, RMX, RML, RL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habilita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C, RUB, RUA, RVC, RVB, RVA, RHC, RHB, RHA, RMC, RMB, RMA, RLB, R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ve Servic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3, SE2, SE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 Care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SC, SSB, S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0A97-D203-447C-B044-0E0B957CC9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 (con’t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ally Complex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C2, CC1, CB2, CB1, CA2, C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ired Cogni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B2, IB1, IA2, I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havior Problems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B2, BB1, BA2, B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 Physical Func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2, PE1, PD2, PD1, PC2, PC1, PB2, PB1, PA2, PA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2A2-C0CF-42E6-8E79-FC96518CF5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 Requirements Necessary to Classify into Rehabilitation Plus Extensive Services Catego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L SC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VE SERVICES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HABILITATION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225-B75B-4C62-9468-21C39FDA22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L Sco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L score must be 7 or hig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requirement is consistent with the  existing requirement for classification into Extensive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3CFE-7B6E-486D-A29E-BE4A0C70D7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tensive Services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ident must be coded for receiv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more of the following extensive servi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9a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enteral / I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V Med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tio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heostomy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ntilator or respir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3D2A-0D9C-48B7-AF39-A84AA716BA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ltra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2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,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nd discipline 3 days/week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2E9-4C9E-417C-A085-D039C9D453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7:28:31Z</dcterms:created>
  <dc:creator>CMS</dc:creator>
  <dc:description/>
  <dc:language>en-US</dc:language>
  <cp:lastModifiedBy>CMS</cp:lastModifiedBy>
  <dcterms:modified xsi:type="dcterms:W3CDTF">2005-11-21T15:13:20Z</dcterms:modified>
  <cp:revision>18</cp:revision>
  <dc:subject/>
  <dc:title>SNF PPS REFINE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